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7FFB-E659-4DFB-8F18-5C7DCE91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F08-5471-4BAD-8A55-FEC2D78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7B5-F104-4DB1-89DA-1F4374E1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881-F927-40DE-B1EC-75C19BA1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52F-DC90-4B89-81FC-D960DD5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C48-5AA1-45FB-B08F-C90CFB85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8EB-87F8-425D-B00D-70E39B3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CC2-0C5B-44A8-884C-5B9A962B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903-CB1F-4CC6-8D48-056EE9F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EC6-C82A-4AFA-9B53-581EEB4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A3FE-C83B-472A-88BB-704BE77D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8A0-7B06-4494-8851-E7DFBD83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707D-0AA3-4DB9-B645-36E19600A5D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7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4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4-11-12T15:18:11Z</dcterms:modified>
  <cp:revision>81</cp:revision>
  <dc:subject/>
  <dc:title>No Slide Title</dc:title>
</cp:coreProperties>
</file>